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29.png" ContentType="image/png"/>
  <Override PartName="/ppt/media/image14.wmf" ContentType="image/x-wmf"/>
  <Override PartName="/ppt/media/image11.png" ContentType="image/png"/>
  <Override PartName="/ppt/media/image15.wmf" ContentType="image/x-wmf"/>
  <Override PartName="/ppt/media/image7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9.wmf" ContentType="image/x-wmf"/>
  <Override PartName="/ppt/media/image30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17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4D43-DC37-4D93-84CB-5D34B78D1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1A04-47C7-4100-B4ED-6B025357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904A-15BD-4894-9C14-FE802CA49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92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856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92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856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F90A-5CE9-48BE-B88C-E9788882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A059-C159-4425-B237-FCC1E0E87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5B73-1CA4-48E4-837B-1E5CA667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1DFF-BA45-446E-9CC3-797E4297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AD58-30F7-4F39-82D0-1261CBD6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98B5-104C-4D31-9808-6168AAEE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120" y="379800"/>
            <a:ext cx="84250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12E1-08F8-472F-9D40-75A2AC7D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2909-4D4A-4CDB-B696-BB878B05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1ECD-EDD6-4D2A-9258-481A3C65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81A6-3D24-45A6-812D-9EE540AF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4F65-E413-437E-9C7D-AED34B47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18E0-E4D1-4A6B-902F-33E67AA9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ACB9-EC49-4035-8A88-2AEEC516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5492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9856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1128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5492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9856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AD48-0A5E-43D6-AE5F-51EE11549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5D8E-D411-4352-85E0-9687BAA2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8898-1FE9-491F-A14F-4CB56480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381D-4545-4F53-B6CE-267105D6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79800"/>
            <a:ext cx="84250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D474-74F0-404F-A6F8-A541651B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DB5A-3998-4CCB-A7F6-5CC3E301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DF42-9FEF-497D-97DB-AAE497C0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E4DE-1728-4DD9-BD6C-F0548287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8584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44600" y="6276960"/>
            <a:ext cx="491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95120" y="6286680"/>
            <a:ext cx="125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7907-3F99-4F7B-9EF9-60C92474DA63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5120" y="6286680"/>
            <a:ext cx="61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4159-C6CC-49E3-BA71-CC673070647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850680"/>
            <a:ext cx="7678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A511-2D1A-4764-A9A1-6C923D09058D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91E8-3C1D-43F6-ABE3-25C892B441EC}" type="slidenum">
              <a:rPr b="0" lang="de-DE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4760" y="664380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33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0800" y="1865880"/>
            <a:ext cx="8615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Verdana"/>
              </a:rPr>
              <a:t>Probabilistic Robotics</a:t>
            </a:r>
            <a:endParaRPr b="1" lang="en-US" sz="4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952560" y="3243240"/>
            <a:ext cx="7380360" cy="33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Probabilistic Sensor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am-bas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an-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ndma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Beam-based Proximity Model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636120" y="1293840"/>
            <a:ext cx="3483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Random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70800" y="1293840"/>
            <a:ext cx="1713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Max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987480" y="4832280"/>
                <a:ext cx="26002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an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270400" y="4794120"/>
                <a:ext cx="26481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mal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0" name=""/>
          <p:cNvGrpSpPr/>
          <p:nvPr/>
        </p:nvGrpSpPr>
        <p:grpSpPr>
          <a:xfrm>
            <a:off x="4989600" y="1784520"/>
            <a:ext cx="3642480" cy="2589840"/>
            <a:chOff x="4989600" y="1784520"/>
            <a:chExt cx="3642480" cy="2589840"/>
          </a:xfrm>
        </p:grpSpPr>
        <p:sp>
          <p:nvSpPr>
            <p:cNvPr id="141" name=""/>
            <p:cNvSpPr/>
            <p:nvPr/>
          </p:nvSpPr>
          <p:spPr>
            <a:xfrm>
              <a:off x="6468480" y="3956040"/>
              <a:ext cx="52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z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Verdana"/>
                </a:rPr>
                <a:t>ex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53560" y="3968640"/>
              <a:ext cx="578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z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Verdana"/>
                </a:rPr>
                <a:t>ma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30640" y="39686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4989600" y="1784520"/>
              <a:ext cx="3546360" cy="219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"/>
          <p:cNvGrpSpPr/>
          <p:nvPr/>
        </p:nvGrpSpPr>
        <p:grpSpPr>
          <a:xfrm>
            <a:off x="611280" y="1774800"/>
            <a:ext cx="3639600" cy="2599560"/>
            <a:chOff x="611280" y="1774800"/>
            <a:chExt cx="3639600" cy="2599560"/>
          </a:xfrm>
        </p:grpSpPr>
        <p:sp>
          <p:nvSpPr>
            <p:cNvPr id="146" name=""/>
            <p:cNvSpPr/>
            <p:nvPr/>
          </p:nvSpPr>
          <p:spPr>
            <a:xfrm>
              <a:off x="2048760" y="3956040"/>
              <a:ext cx="52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z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Verdana"/>
                </a:rPr>
                <a:t>ex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72360" y="3968640"/>
              <a:ext cx="578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z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Verdana"/>
                </a:rPr>
                <a:t>ma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1280" y="39686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647640" y="1774800"/>
              <a:ext cx="3546360" cy="21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7A82-307F-4096-AE21-5B56D2419C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Resulting Mixture Density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419720" y="1787400"/>
                <a:ext cx="4549680" cy="18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hit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unexp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ax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rand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hit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z</m:t>
                              </m:r>
                              <m:r>
                                <m:t xml:space="preserve">|</m:t>
                              </m:r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t xml:space="preserve">m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nexp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z</m:t>
                              </m:r>
                              <m:r>
                                <m:t xml:space="preserve">|</m:t>
                              </m:r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t xml:space="preserve">m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ax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z</m:t>
                              </m:r>
                              <m:r>
                                <m:t xml:space="preserve">|</m:t>
                              </m:r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t xml:space="preserve">m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and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z</m:t>
                              </m:r>
                              <m:r>
                                <m:t xml:space="preserve">|</m:t>
                              </m:r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t xml:space="preserve">m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4200" y="1730520"/>
            <a:ext cx="3983040" cy="201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6F5A-96CE-4CF5-BB5B-B755893FA8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Algoritm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3080" y="1362240"/>
            <a:ext cx="8999640" cy="413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BA3E-FE74-4D27-B174-8B57A60B0E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Raw Sensor Dat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799160" y="2610000"/>
            <a:ext cx="3989160" cy="2754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66840" y="2610000"/>
            <a:ext cx="3989160" cy="2754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52040" y="1738440"/>
            <a:ext cx="7852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asured distances for expected distance of 300 c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00080" y="5425920"/>
            <a:ext cx="1155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So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59480" y="5425920"/>
            <a:ext cx="1082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La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14720" y="1141560"/>
            <a:ext cx="5025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o determinar os parâmet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2293-1B8A-4583-90C7-147821A7E9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Approximation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ximize log likelihood of the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arch space of n-1 paramet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ll climb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dient desc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istically compute the n-th parameter to satisfy normalization constrai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427560" y="1836720"/>
                <a:ext cx="18558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1E70-5269-4370-BD64-3A3A9F895F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Approximation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031840" y="1009800"/>
            <a:ext cx="5234040" cy="565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41B5-2C11-4CBB-BE5F-B072144001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478480" y="3679920"/>
            <a:ext cx="2860560" cy="2163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44400" y="3637080"/>
            <a:ext cx="3144960" cy="22222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Approximation Result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3805200" y="4346640"/>
            <a:ext cx="1155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So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43360" y="1946160"/>
            <a:ext cx="1082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La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03280" y="59626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00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61080" y="58482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00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5400720" y="1351080"/>
            <a:ext cx="2771640" cy="2136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642960" y="1295280"/>
            <a:ext cx="2903400" cy="216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B36E-9CA8-47A9-B719-9AFB6B94B6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xample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0760" y="1851120"/>
            <a:ext cx="3179880" cy="3031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470400" y="1898640"/>
            <a:ext cx="5622840" cy="28576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582920" y="4968720"/>
            <a:ext cx="339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69640" y="4968720"/>
            <a:ext cx="1517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(z|x,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EAA3-149B-41F0-9950-BF36AB538E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Summary Beam-based Model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umes independence between bea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ustificati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confident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els physical causes for measu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ture of densities for these cau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umes independence between causes. Problem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arn parameters based on real da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models should be learned for different angles at which the sensor beam hits the obstac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ermine expected distances by ray-trac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ected distances can be pre-process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B871-F739-48EB-AC14-C87E00A392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30120" y="3848040"/>
            <a:ext cx="8547120" cy="1346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Scan-based Model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am-based model is 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smooth for small obstacles and at edg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very effici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Ide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Instead of following along the beam, just check the end poi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315D-5FA0-4CA0-BD5A-00017D9558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Sensors for Mobile Robot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Contact sensor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mp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Internal sens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elerometers (spring-mounted mass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yroscopes (spinning mass, laser ligh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sses, inclinometers (earth magnetic field, gravit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Proximity sens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nar (time of fligh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(phase and frequenc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ser range-finders (time of fligh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rared (intensit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Visual sensor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me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Satellite-based senso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5AA9-CF49-48B7-9F47-F01D8D2C44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Scan-based Model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ability is a mixture of 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Gaussian distribution with mean at </a:t>
            </a: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distance to closest obstacl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uniform distribution for random measurements, an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mall uniform distribution for max range measureme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gain, independence between different components is assum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3E5E-4419-40AF-A4DE-12BD4E1477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xample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046840" y="119160"/>
            <a:ext cx="3071520" cy="30718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01560" y="1122480"/>
            <a:ext cx="3071880" cy="30715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4430880" y="3637080"/>
            <a:ext cx="4049640" cy="25034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634480" y="5425920"/>
            <a:ext cx="1517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(z|x,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63040" y="4257720"/>
            <a:ext cx="132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p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94800" y="3152880"/>
            <a:ext cx="2712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kelihood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D425-3F53-4FCA-8B7C-ABC58DC42B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4280" y="923760"/>
            <a:ext cx="9056880" cy="501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E09B-1742-4502-A6D6-397027B300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San Jose Tech Museum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25280" y="1284120"/>
            <a:ext cx="4448160" cy="4114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027760" y="1282680"/>
            <a:ext cx="3954240" cy="41544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803520" y="5599080"/>
            <a:ext cx="3131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ccupancy grid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66840" y="5611680"/>
            <a:ext cx="2360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kelihood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2D27-4F8D-4DB4-815D-F1E515EFD3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Scan Matching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tract likelihood field from scan and use it to match different sca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65240" y="2752560"/>
            <a:ext cx="2879640" cy="31546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178160" y="2567160"/>
            <a:ext cx="4800600" cy="35780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38560" y="4406760"/>
            <a:ext cx="787320" cy="0"/>
          </a:xfrm>
          <a:prstGeom prst="line">
            <a:avLst/>
          </a:prstGeom>
          <a:ln w="698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0641-9AE5-4389-A0BF-9D34EBDE218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roperties of Scan-based Model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ighly efficient, uses 2D tables onl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mooth w.r.t. to small changes in robot posi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ws gradient descent, scan matching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gnores physical properties of beam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4300-113F-4F92-9333-C4E406A7C65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463680"/>
            <a:ext cx="8425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Additional Models of Proximity Sensors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Map matching (sonar,laser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generate small, local maps from sensor data and match local maps against global mode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Scan matching (laser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map is represented by scan endpoints, match scan into this map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Features (sonar, laser, vision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Extract features such as doors, hallways from sensor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CCBE-347D-4129-916D-DAF99E31E13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Landmark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tive beacons 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e.g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, radio, GP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ssive 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e.g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, visual, retro-reflectiv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ndard approach is </a:t>
            </a: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triangul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nsor provid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tance, 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aring, 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tance and bear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7CCB-1AA4-4307-A1AE-992307D739B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Distance and Bearing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977760" y="1130400"/>
            <a:ext cx="7450200" cy="496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E53F-7240-49A7-A2ED-40DD19DC783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robabilistic Model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3760" y="1805040"/>
            <a:ext cx="9097920" cy="324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02E6-16BD-45AE-847E-0F67D70571D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roximity Sensor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entral task is to determine </a:t>
            </a:r>
            <a:r>
              <a:rPr b="0" i="1" lang="en-US" sz="2400" spc="-1" strike="noStrike">
                <a:solidFill>
                  <a:srgbClr val="0033cc"/>
                </a:solidFill>
                <a:latin typeface="Verdana"/>
              </a:rPr>
              <a:t>P(z|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.e., the </a:t>
            </a: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probability of a measurement </a:t>
            </a:r>
            <a:r>
              <a:rPr b="0" i="1" lang="en-US" sz="2400" spc="-1" strike="noStrike">
                <a:solidFill>
                  <a:srgbClr val="0033cc"/>
                </a:solidFill>
                <a:latin typeface="Verdana"/>
              </a:rPr>
              <a:t>z</a:t>
            </a: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 given that the robot is at position </a:t>
            </a:r>
            <a:r>
              <a:rPr b="0" i="1" lang="en-US" sz="2400" spc="-1" strike="noStrike">
                <a:solidFill>
                  <a:srgbClr val="0033cc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Ques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Where do the probabilities come from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Approac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Let’s try to explain a measure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89080" y="1320840"/>
            <a:ext cx="2568600" cy="2574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63760" y="1333440"/>
            <a:ext cx="2556000" cy="254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197760" y="1295280"/>
            <a:ext cx="2616120" cy="261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9C0C-FC9A-4CE3-AE4F-536D09023C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robabilistic Model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1096920"/>
            <a:ext cx="9144000" cy="461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1165-41C1-4096-9122-3D688245DAD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robabilistic Model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1300320"/>
            <a:ext cx="9144000" cy="42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F343-EE52-4B67-873C-17BCC2CE46D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Distribution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300640" y="108000"/>
            <a:ext cx="3238560" cy="200808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868320" y="2208240"/>
            <a:ext cx="3071880" cy="190656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5300640" y="2208240"/>
            <a:ext cx="3071880" cy="190656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868320" y="4240080"/>
            <a:ext cx="3071880" cy="190656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5300640" y="4240080"/>
            <a:ext cx="3071880" cy="190656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BA59-B2CE-4E3D-AFB7-6CF50896CF4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Summary of Sensor Model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6800" y="1306080"/>
            <a:ext cx="85248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spcBef>
                <a:spcPts val="4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licitly modeling uncertainty in sensing is key to robust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06440" indent="-406440">
              <a:spcBef>
                <a:spcPts val="4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many cases, good models can be found by the following approach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7760" indent="-342720">
              <a:spcBef>
                <a:spcPts val="451"/>
              </a:spcBef>
              <a:buClr>
                <a:srgbClr val="0033cc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ermine parametric model of noise free measure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77760" indent="-342720">
              <a:spcBef>
                <a:spcPts val="451"/>
              </a:spcBef>
              <a:buClr>
                <a:srgbClr val="0033cc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alyze sources of noi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77760" indent="-342720">
              <a:spcBef>
                <a:spcPts val="451"/>
              </a:spcBef>
              <a:buClr>
                <a:srgbClr val="0033cc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adequate noise to parameters (eventually mix in densities for noise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77760" indent="-342720">
              <a:spcBef>
                <a:spcPts val="451"/>
              </a:spcBef>
              <a:buClr>
                <a:srgbClr val="0033cc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arn (and verify) parameters by fitting model to dat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77760" indent="-342720">
              <a:spcBef>
                <a:spcPts val="451"/>
              </a:spcBef>
              <a:buClr>
                <a:srgbClr val="0033cc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kelihood of measurement is given by “probabilistically comparing” the actual with the expected measure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06440" indent="-406440">
              <a:spcBef>
                <a:spcPts val="4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holds for motion models as we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06440" indent="-406440">
              <a:spcBef>
                <a:spcPts val="4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extremely important to be aware of the underlying assumption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85A5-EF39-4C8E-BB10-4F5213E3AC0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Beam-based Sensor Model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an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z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ists of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dividual measurements are independent given the robot posi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895480" y="1984320"/>
                <a:ext cx="27511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217600" y="4179960"/>
                <a:ext cx="441180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2174-3172-4524-865D-AAAB422932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Beam-based Sensor Model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217600" y="4535640"/>
                <a:ext cx="4411800" cy="112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98" name=""/>
          <p:cNvGrpSpPr/>
          <p:nvPr/>
        </p:nvGrpSpPr>
        <p:grpSpPr>
          <a:xfrm>
            <a:off x="289080" y="1409760"/>
            <a:ext cx="8524800" cy="2616120"/>
            <a:chOff x="289080" y="1409760"/>
            <a:chExt cx="8524800" cy="261612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289080" y="1434960"/>
              <a:ext cx="2568600" cy="257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3263760" y="1447920"/>
              <a:ext cx="2556000" cy="2547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6197760" y="1409760"/>
              <a:ext cx="2616120" cy="261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FE60-E562-4AFF-9A7F-F3A55AE427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35360" y="1762200"/>
            <a:ext cx="3895920" cy="3870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145080"/>
            <a:ext cx="8425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Typical Measurement Errors of an Range Measurement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301680" y="1873080"/>
            <a:ext cx="3693960" cy="36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ams reflected by obsta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ams reflected by persons / caused by crosst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ndom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ximum range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352680" y="2286000"/>
            <a:ext cx="2984760" cy="876240"/>
            <a:chOff x="3352680" y="2286000"/>
            <a:chExt cx="2984760" cy="876240"/>
          </a:xfrm>
        </p:grpSpPr>
        <p:sp>
          <p:nvSpPr>
            <p:cNvPr id="106" name=""/>
            <p:cNvSpPr/>
            <p:nvPr/>
          </p:nvSpPr>
          <p:spPr>
            <a:xfrm>
              <a:off x="3378240" y="2311560"/>
              <a:ext cx="1765440" cy="7999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52680" y="2286000"/>
              <a:ext cx="2502000" cy="8762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52680" y="2286000"/>
              <a:ext cx="2984760" cy="8254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632040" y="3174480"/>
            <a:ext cx="3619800" cy="241920"/>
            <a:chOff x="3632040" y="3174480"/>
            <a:chExt cx="3619800" cy="241920"/>
          </a:xfrm>
        </p:grpSpPr>
        <p:sp>
          <p:nvSpPr>
            <p:cNvPr id="110" name=""/>
            <p:cNvSpPr/>
            <p:nvPr/>
          </p:nvSpPr>
          <p:spPr>
            <a:xfrm flipV="1">
              <a:off x="3632040" y="3174480"/>
              <a:ext cx="3022920" cy="10188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45000" y="3289320"/>
              <a:ext cx="3606840" cy="12708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 flipV="1">
            <a:off x="2793960" y="3797280"/>
            <a:ext cx="4508640" cy="3556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65640" y="4610160"/>
            <a:ext cx="4508280" cy="355680"/>
            <a:chOff x="3365640" y="4610160"/>
            <a:chExt cx="4508280" cy="355680"/>
          </a:xfrm>
        </p:grpSpPr>
        <p:sp>
          <p:nvSpPr>
            <p:cNvPr id="114" name=""/>
            <p:cNvSpPr/>
            <p:nvPr/>
          </p:nvSpPr>
          <p:spPr>
            <a:xfrm flipV="1">
              <a:off x="3365640" y="4610160"/>
              <a:ext cx="4508280" cy="35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390840" y="4660560"/>
              <a:ext cx="17272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562C-B9E7-4655-867F-2A4885FE61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roximity Measuremen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asurement can be caused by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known obstac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oss-tal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unexpected obstacle (people, furniture, …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ssing all obstacles (total reflection, glass, …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ise is due to uncertainty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measuring distance to known obstac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position of known obstac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position of additional obstac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ther obstacle is miss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24D5-A2AF-4E2A-B2B1-742C65604C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roximity Measuremen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pos de erros modelado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quenos erros de medida (ruid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stáculos inesper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dida randôm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lha de detecção de qualquer objeto (medida máxim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C946-A949-4F08-8564-57A622C8B1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Beam-based Proximity Model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853200" y="1293840"/>
            <a:ext cx="3039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Measurement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11280" y="1809720"/>
            <a:ext cx="3639600" cy="2564640"/>
            <a:chOff x="611280" y="1809720"/>
            <a:chExt cx="3639600" cy="256464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620640" y="1809720"/>
              <a:ext cx="3505320" cy="21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2048760" y="3956040"/>
              <a:ext cx="52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z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Verdana"/>
                </a:rPr>
                <a:t>ex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72360" y="3968640"/>
              <a:ext cx="578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z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Verdana"/>
                </a:rPr>
                <a:t>ma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1280" y="39686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15880" y="4784760"/>
                <a:ext cx="3827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πσ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610160" y="4772160"/>
                <a:ext cx="4527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ex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η</m:t>
                              </m:r>
                              <m:r>
                                <m:t xml:space="preserve"> </m:t>
                              </m:r>
                              <m:r>
                                <m:t xml:space="preserve">λ</m:t>
                              </m:r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λz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z</m:t>
                              </m:r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x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4916880" y="1293840"/>
            <a:ext cx="3323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Unexpected obsta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030640" y="1811160"/>
            <a:ext cx="3214800" cy="2601000"/>
            <a:chOff x="5030640" y="1811160"/>
            <a:chExt cx="3214800" cy="2601000"/>
          </a:xfrm>
        </p:grpSpPr>
        <p:sp>
          <p:nvSpPr>
            <p:cNvPr id="131" name=""/>
            <p:cNvSpPr/>
            <p:nvPr/>
          </p:nvSpPr>
          <p:spPr>
            <a:xfrm>
              <a:off x="6468480" y="3993840"/>
              <a:ext cx="52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z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Verdana"/>
                </a:rPr>
                <a:t>ex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34520" y="4006440"/>
              <a:ext cx="578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z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Verdana"/>
                </a:rPr>
                <a:t>ma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30640" y="40064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114880" y="1811160"/>
              <a:ext cx="3130560" cy="214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4730-746D-4110-A677-7B9C37262D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3T15:49:16Z</dcterms:created>
  <dc:creator>SCS</dc:creator>
  <dc:description/>
  <dc:language>en-US</dc:language>
  <cp:lastModifiedBy>-</cp:lastModifiedBy>
  <dcterms:modified xsi:type="dcterms:W3CDTF">2011-08-25T18:05:08Z</dcterms:modified>
  <cp:revision>1535</cp:revision>
  <dc:subject/>
  <dc:title>Probabilistic Robotics</dc:title>
</cp:coreProperties>
</file>